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8230-41A4-4C2F-8A77-46B33E4C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2542-BB40-4AF1-B89F-1E7BA811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4DF5-280A-4041-8726-51203A3A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3E1D-CF2D-461C-8F10-A773A5A3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F10A-7100-498D-8A60-11B5AC81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5484-1FE3-49ED-A3A4-3880933A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2CFA-E51C-48A5-8ACE-8730BD6C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20E5-7B15-470B-9C6D-5EF5A0A2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7F03-C5C8-4914-B609-AB896247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142F-5B11-4CBE-9863-E6D7D141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CB97-F8AA-4D88-B431-0D4055B4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4B9F-2955-4C08-8202-129BCB49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2A19-F8E9-47CD-B527-A31EFC09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8577-CDB5-471E-B664-2784A544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153D-1A6D-4DB5-A94A-E35956B2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681A-4399-4E04-8AB0-BFF5399C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4944-3E9A-4A62-A413-0B3814DF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F327-2E91-49E6-BEBA-7DAF4599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5FB6-7260-4646-BB3E-1FD50888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23F5E-DCA6-45A0-BFAE-470990FD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382C-7083-40E2-B531-36A1B8A0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E44F-AAF6-41BE-BF12-D04925BE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1733B-67B6-44ED-80A1-4B28FDF2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8262-F3BE-42D0-9743-02472377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DA80-EEB1-40CF-8746-017C1FCC260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C171-545A-40A5-B06D-5D9DF898AD1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79280" y="1447200"/>
            <a:ext cx="885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28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0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Хубав и славен Сион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ад на вечен пок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алсам целебен за мен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маш от Бога м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105640"/>
            <a:ext cx="8964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Сионе, чуден и слав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аде роден м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еб копнея аз всек' д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воя блажен покой</a:t>
            </a:r>
            <a:r>
              <a:rPr b="1" lang="bg-BG" sz="4400" spc="-1" strike="noStrike">
                <a:solidFill>
                  <a:srgbClr val="ffffff"/>
                </a:solidFill>
                <a:latin typeface="Garamond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е сърце ми жела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е се радвам аз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ълго ощ' не ще да трае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ъм в теб с моя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Сионе, чуден и слав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аде роден м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еб копнея аз всек' д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воя блажен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коро за спящите твои слънцето ще изгрей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чно там в твоите поко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' на Христа ще пе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Сионе, чуден и слав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аде роден м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еб копнея аз всек' д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воя блажен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 теб е, Сионе небес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ронът на моя Спас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ее се там нова п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Него всеки ч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Сионе, чуден и слав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аде роден м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еб копнея аз всек' д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воя блажен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38:47Z</dcterms:modified>
  <cp:revision>53</cp:revision>
  <dc:subject/>
  <dc:title>Slide 1</dc:title>
</cp:coreProperties>
</file>